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6.png" ContentType="image/png"/>
  <Override PartName="/ppt/media/chimes.wav" ContentType="audio/x-wav"/>
  <Override PartName="/ppt/media/image21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camera.wav" ContentType="audio/x-wav"/>
  <Override PartName="/ppt/media/breeze.wav" ContentType="audio/x-wav"/>
  <Override PartName="/ppt/media/suction.wav" ContentType="audio/x-wav"/>
  <Override PartName="/ppt/media/image4.jpeg" ContentType="image/jpeg"/>
  <Override PartName="/ppt/media/image2.png" ContentType="image/png"/>
  <Override PartName="/ppt/media/whoosh.wav" ContentType="audio/x-wav"/>
  <Override PartName="/ppt/media/image8.jpeg" ContentType="image/jpeg"/>
  <Override PartName="/ppt/media/voltage.wav" ContentType="audio/x-wav"/>
  <Override PartName="/ppt/media/image7.png" ContentType="image/png"/>
  <Override PartName="/ppt/media/image1.jpeg" ContentType="image/jpeg"/>
  <Override PartName="/ppt/media/image20.png" ContentType="image/png"/>
  <Override PartName="/ppt/media/hammer.wav" ContentType="audio/x-wav"/>
  <Override PartName="/ppt/media/image12.jpeg" ContentType="image/jpeg"/>
  <Override PartName="/ppt/media/image22.jpeg" ContentType="image/jpeg"/>
  <Override PartName="/ppt/media/image9.png" ContentType="image/png"/>
  <Override PartName="/ppt/media/image13.jpeg" ContentType="image/jpeg"/>
  <Override PartName="/ppt/media/image23.png" ContentType="image/png"/>
  <Override PartName="/ppt/media/push.wav" ContentType="audio/x-wav"/>
  <Override PartName="/ppt/media/image24.jpeg" ContentType="image/jpeg"/>
  <Override PartName="/ppt/media/drumroll.wav" ContentType="audio/x-wav"/>
  <Override PartName="/ppt/media/image18.png" ContentType="image/png"/>
  <Override PartName="/ppt/media/type.wav" ContentType="audio/x-wav"/>
  <Override PartName="/ppt/media/image6.jpeg" ContentType="image/jpeg"/>
  <Override PartName="/ppt/media/image5.png" ContentType="image/png"/>
  <Override PartName="/ppt/media/applause.wav" ContentType="audio/x-wav"/>
  <Override PartName="/ppt/media/image3.png" ContentType="image/png"/>
  <Override PartName="/ppt/media/image17.jpeg" ContentType="image/jpeg"/>
  <Override PartName="/ppt/media/laser.wav" ContentType="audio/x-wav"/>
  <Override PartName="/ppt/media/image11.png" ContentType="image/png"/>
  <Override PartName="/ppt/media/image25.png" ContentType="image/pn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7c05"/>
                </a:solidFill>
                <a:latin typeface="Trebuchet MS"/>
              </a:rPr>
              <a:t>Click to move the slide</a:t>
            </a: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B453-B650-477B-B552-3FEE0AB883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1488-5F7C-47CC-8E5D-6BC19036BC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C4E6-42C0-4CE0-A9D4-7739A30986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A6C0-8428-4609-889E-54327ED10F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22F8-EC57-4ABB-821D-77118EAE1E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69EE-4B09-4EFD-9FA4-1E315F25FB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E43F-08EA-4124-BFE9-C0E89A212F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CAB6-D1B8-4B31-8048-8BE94889FD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B277-1316-4466-A353-468FE500AD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19C1-3716-454F-835A-3C762DA28E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5577-038D-46C5-A359-0EB1D743BD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E9EE-FEFE-4C65-B7C7-8B8F6072E5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0EE2-3294-451E-9235-BD7C1B9647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210A-210F-42DF-96CE-84E2EF9A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809A-CD64-42DB-AD44-6F92FE90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E3E0-813E-467D-9D2D-F0C62D8F6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27E3-D260-4B14-A139-26DEDD942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5307-5436-4DB3-BD7E-F13C323D3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8CC6-8F56-4AE3-B969-12C0CE37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15A0-4240-414B-9844-C0B05513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3AD0-706F-40AC-8DE7-43DEE196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692E-8A27-47B2-8C33-8EE1298F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BB6E-EC9D-433E-B349-CD80AD0B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64FC-FA63-444D-BE38-54565F28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AA2D-BE6A-4A52-974E-72D8D894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1AE8-9FBF-4F90-A15A-0F3A1BD0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A837-BE69-48C0-B9C3-99D32988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8EDB-4599-4C1E-880C-EA0DFF99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46E8-3C92-45E6-9BDA-06F5FA677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0757-FF4E-4EFB-9145-7304DAFC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5E71F-BB1B-4F1B-81B0-719F1732F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B3443-E8C6-405D-94D2-CE823E17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47982-3E4A-4053-AE4B-C9AEF88C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41B7E-7760-4010-8347-B9A51C59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B4293-67DD-4144-9423-1F7B5827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739E-2BF6-45ED-ACFD-E3628AD4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0104A-50C9-4C22-B682-1E1CC1A6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827B4-4A7A-44A7-AC07-BB54275F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313E0-924B-41C0-B7DD-762B246F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9CFDE-7577-4847-9E09-AECD390C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010B4-8DB1-4917-B0BA-33CAA612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E2908-323A-43B0-9304-E67EB7A7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EE73F-17F3-4F26-852B-06AB03EE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39E7C-294B-4569-9E2F-61E4C4DB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DA4FB-BE51-459A-AB43-C0BDBA49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30BAC-DE9C-4D87-B85D-6367CB33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58BB-A50B-4D7F-804C-55567AE7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93F16-21C6-4C24-8470-62236965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42D34-FBAD-478B-8BB8-CB4A2B5A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498DE-C358-4E9C-ADF2-D4B8F36A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FBA28-D441-4C3E-BA56-9A4F65E2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0958F-0068-4278-BDB7-9019F5A5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E3624-7631-4D5A-85EC-8F359FBA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6C91A-3880-4053-9B4F-F1A5BF97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81361-7A09-473F-A350-A8421C18D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2E9FC-484C-46D5-9591-50142042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B8DC4-1F34-4311-9C80-BEA9DC33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E079-A9B7-4556-A6A6-6F66F0DB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DD21B-6537-4AD7-B09B-4C620A9E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103C1-95D7-4C5C-A4BC-459403C8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C4003-CD99-4B14-BF1E-BD03F72B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5252B-958E-4328-ACD4-EF3FBD54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75B5C-FCF6-4E25-89BB-0A47EC44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7ED61-23EF-4251-ABBF-3D98B650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99BD9-EDCE-4CA4-92E6-0EE5727D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F4B91-7855-40D1-84D0-6E8988BB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E7593-ADB3-4A30-9B8E-3584BDBC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E56E9-62BE-4A7E-9254-9291DD4EA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9183-3D72-451E-B014-53C14EC8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203F3-46DC-4336-AEC1-DF8429E2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5C02D-2028-4204-A8CE-3D9244CE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B2B6E-869B-4B8E-A4F7-14BB9EB0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15E33-5EED-4A5E-9672-14BEC0DC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05CB1-2F74-48E8-8ECC-7524E73F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517CB-6219-45BD-A526-66EB14AB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34021-B314-4376-949D-32645146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5DF89-DC81-4E81-BA37-391DBB30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3FFE3-6141-4989-8B3C-6A679EC5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9C5AE-1B90-4FE6-92A1-A1BF7140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D72E-C964-46F5-B5BA-C693FC7B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F299D-B761-44D4-87A5-FE8AA80A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FA051-46D3-4C1B-9FA3-EA8258FF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21B77-1167-4B46-9933-7B9AC749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E1A68-9742-42B6-BBAC-694DE794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25917-1C3F-4981-B175-9936FED6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9C14F-EEB8-4DF6-9A25-F2EC3982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24E1C-D296-4899-8850-5832E431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01FF4-69F1-4711-B5A2-138CFBA3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A95EB-0416-4392-8093-27F0D5DA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D3EEF-1434-4DEB-8D6D-F493C6EF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3C65-EC00-4044-9E0D-9702172C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A9621-871D-4077-8AFF-EDC87896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A6B5D-5245-4D47-BB30-7F1CB9E8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5438F-662D-4FFF-B87E-798DABC5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63DBE-83AA-40CF-A93A-E693D6271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2EF13-F8BB-4D98-A943-9E528F9E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8FA4-C931-4811-9273-FBD6241F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7c05"/>
                </a:solidFill>
                <a:latin typeface="Trebuchet MS"/>
              </a:rPr>
              <a:t>Click to edit the title text format</a:t>
            </a: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30080" indent="-272880">
              <a:buClr>
                <a:srgbClr val="7598d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995400" indent="-228600">
              <a:buClr>
                <a:srgbClr val="b32c1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216080" indent="-182520">
              <a:buClr>
                <a:srgbClr val="f5cd2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425600" indent="-182520">
              <a:buClr>
                <a:srgbClr val="aebad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CF59-EBB6-4F24-B541-88217E00892D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7c05"/>
                </a:solidFill>
                <a:latin typeface="Trebuchet MS"/>
              </a:rPr>
              <a:t>Click to edit the title text format</a:t>
            </a: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30080" indent="-272880">
              <a:buClr>
                <a:srgbClr val="7598d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995400" indent="-228600">
              <a:buClr>
                <a:srgbClr val="b32c1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216080" indent="-182520">
              <a:buClr>
                <a:srgbClr val="f5cd2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1425600" indent="-182520">
              <a:buClr>
                <a:srgbClr val="aebad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7627-CDDA-4B10-822E-E2859B1AD0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7c05"/>
                </a:solidFill>
                <a:latin typeface="Trebuchet MS"/>
              </a:rPr>
              <a:t>Click to edit the title text format</a:t>
            </a: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30080" indent="-272880">
              <a:buClr>
                <a:srgbClr val="7598d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995400" indent="-228600">
              <a:buClr>
                <a:srgbClr val="b32c1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216080" indent="-182520">
              <a:buClr>
                <a:srgbClr val="f5cd2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1425600" indent="-182520">
              <a:buClr>
                <a:srgbClr val="aebad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753C-2B89-44C2-8544-2BBEC77C27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7c05"/>
                </a:solidFill>
                <a:latin typeface="Trebuchet MS"/>
              </a:rPr>
              <a:t>Click to edit the title text format</a:t>
            </a: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30080" indent="-272880">
              <a:buClr>
                <a:srgbClr val="7598d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995400" indent="-228600">
              <a:buClr>
                <a:srgbClr val="b32c1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216080" indent="-182520">
              <a:buClr>
                <a:srgbClr val="f5cd2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425600" indent="-182520">
              <a:buClr>
                <a:srgbClr val="aebad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A827-695A-4B6B-93DC-A6D10D38DA1A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7c05"/>
                </a:solidFill>
                <a:latin typeface="Trebuchet MS"/>
              </a:rPr>
              <a:t>Click to edit the title text format</a:t>
            </a: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30080" indent="-272880">
              <a:buClr>
                <a:srgbClr val="7598d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995400" indent="-228600">
              <a:buClr>
                <a:srgbClr val="b32c1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216080" indent="-182520">
              <a:buClr>
                <a:srgbClr val="f5cd2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425600" indent="-182520">
              <a:buClr>
                <a:srgbClr val="aebad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EE0B-17D0-40E6-99F4-058C227BD79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7c05"/>
                </a:solidFill>
                <a:latin typeface="Trebuchet MS"/>
              </a:rPr>
              <a:t>Click to edit the title text format</a:t>
            </a: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30080" indent="-272880">
              <a:buClr>
                <a:srgbClr val="7598d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995400" indent="-228600">
              <a:buClr>
                <a:srgbClr val="b32c1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216080" indent="-182520">
              <a:buClr>
                <a:srgbClr val="f5cd2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425600" indent="-182520">
              <a:buClr>
                <a:srgbClr val="aebad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B582-205E-4052-8FB2-D2CCB0E857D0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7c05"/>
                </a:solidFill>
                <a:latin typeface="Trebuchet MS"/>
              </a:rPr>
              <a:t>Click to edit the title text format</a:t>
            </a:r>
            <a:endParaRPr b="1" lang="en-US" sz="4500" spc="-1" strike="noStrike">
              <a:solidFill>
                <a:srgbClr val="ff7c05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30080" indent="-272880">
              <a:buClr>
                <a:srgbClr val="7598d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995400" indent="-228600">
              <a:buClr>
                <a:srgbClr val="b32c1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216080" indent="-182520">
              <a:buClr>
                <a:srgbClr val="f5cd2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425600" indent="-182520">
              <a:buClr>
                <a:srgbClr val="aebad5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876A-0A95-435E-BD61-FDDB8361382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texasbeyondhistory.net/paso/images/FirstThanksgiving1.html" TargetMode="External"/><Relationship Id="rId3" Type="http://schemas.openxmlformats.org/officeDocument/2006/relationships/hyperlink" Target="http://www.texasbeyondhistory.net/paso/images/FirstThanksgiving1.html" TargetMode="External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ysletamission.org/wp-content/uploads/tower.jpg" TargetMode="External"/><Relationship Id="rId3" Type="http://schemas.openxmlformats.org/officeDocument/2006/relationships/hyperlink" Target="http://ysletamission.org/wp-content/uploads/tower.jpg" TargetMode="External"/><Relationship Id="rId4" Type="http://schemas.openxmlformats.org/officeDocument/2006/relationships/image" Target="../media/image15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208080" y="3060720"/>
            <a:ext cx="8564400" cy="1974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5257800" y="5334120"/>
            <a:ext cx="3124080" cy="12952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haroni"/>
                <a:ea typeface="Aharoni"/>
              </a:rPr>
              <a:t>By:</a:t>
            </a:r>
            <a:endParaRPr b="0" lang="en-US" sz="1700" spc="-1" strike="noStrike">
              <a:solidFill>
                <a:srgbClr val="ffffff"/>
              </a:solidFill>
              <a:latin typeface="Georg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eorg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haroni"/>
                <a:ea typeface="Aharoni"/>
              </a:rPr>
              <a:t>Reece Mayfield</a:t>
            </a:r>
            <a:endParaRPr b="0" lang="en-US" sz="1700" spc="-1" strike="noStrike">
              <a:solidFill>
                <a:srgbClr val="ffffff"/>
              </a:solidFill>
              <a:latin typeface="Georg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haroni"/>
                <a:ea typeface="Aharoni"/>
              </a:rPr>
              <a:t>Mrs. Smalley</a:t>
            </a:r>
            <a:endParaRPr b="0" lang="en-US" sz="1700" spc="-1" strike="noStrike">
              <a:solidFill>
                <a:srgbClr val="ffffff"/>
              </a:solidFill>
              <a:latin typeface="Georg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haroni"/>
                <a:ea typeface="Aharoni"/>
              </a:rPr>
              <a:t>October </a:t>
            </a:r>
            <a:r>
              <a:rPr b="0" lang="en-US" sz="2900" spc="-1" strike="noStrike">
                <a:solidFill>
                  <a:srgbClr val="ffffff"/>
                </a:solidFill>
                <a:latin typeface="Aharoni"/>
                <a:ea typeface="Aharoni"/>
              </a:rPr>
              <a:t>22, 2011</a:t>
            </a:r>
            <a:endParaRPr b="0" lang="en-US" sz="2900" spc="-1" strike="noStrike">
              <a:solidFill>
                <a:srgbClr val="ffffff"/>
              </a:solidFill>
              <a:latin typeface="Georgia"/>
            </a:endParaRPr>
          </a:p>
        </p:txBody>
      </p:sp>
      <p:cxnSp>
        <p:nvCxnSpPr>
          <p:cNvPr id="312" name="Elbow Connector 6"/>
          <p:cNvCxnSpPr/>
          <p:nvPr/>
        </p:nvCxnSpPr>
        <p:spPr>
          <a:xfrm rot="5400000">
            <a:off x="5829480" y="2551680"/>
            <a:ext cx="76680" cy="2520"/>
          </a:xfrm>
          <a:prstGeom prst="bentConnector3">
            <a:avLst>
              <a:gd name="adj1" fmla="val 50000"/>
            </a:avLst>
          </a:prstGeom>
          <a:ln w="10080">
            <a:solidFill>
              <a:srgbClr val="fe8637"/>
            </a:solidFill>
            <a:miter/>
          </a:ln>
        </p:spPr>
      </p:cxnSp>
    </p:spTree>
  </p:cSld>
  <p:transition spd="med">
    <p:diamond/>
    <p:sndAc>
      <p:stSnd>
        <p:snd r:embed="rId2" name="lase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Title 1" descr=""/>
          <p:cNvPicPr/>
          <p:nvPr/>
        </p:nvPicPr>
        <p:blipFill>
          <a:blip r:embed="rId1"/>
          <a:stretch/>
        </p:blipFill>
        <p:spPr>
          <a:xfrm>
            <a:off x="249120" y="152280"/>
            <a:ext cx="8682120" cy="12621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3276720" y="1523520"/>
            <a:ext cx="5333760" cy="3505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In 1680 Tigua Indians helped drive the Spanish out of New Mexico and down to El Paso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The Spanish King gave them a grant of land around their Pueblo. This gave them title to the land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The Tigua are the only Pueblo tribe still in Texas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The Tigua also have contributed to Texas culture through their art and dance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AutoShape 6">
            <a:hlinkClick r:id="rId2"/>
          </p:cNvPr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8">
            <a:hlinkClick r:id="rId3"/>
          </p:cNvPr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3" descr="C:\Users\Mayfield\Pictures\FirstThanksgiving1-sm[1].jpg"/>
          <p:cNvPicPr/>
          <p:nvPr/>
        </p:nvPicPr>
        <p:blipFill>
          <a:blip r:embed="rId4"/>
          <a:stretch/>
        </p:blipFill>
        <p:spPr>
          <a:xfrm>
            <a:off x="457200" y="1981080"/>
            <a:ext cx="2540160" cy="38484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4" descr="C:\Users\Mayfield\Pictures\icon-index[1].jpg"/>
          <p:cNvPicPr/>
          <p:nvPr/>
        </p:nvPicPr>
        <p:blipFill>
          <a:blip r:embed="rId5"/>
          <a:stretch/>
        </p:blipFill>
        <p:spPr>
          <a:xfrm>
            <a:off x="3352680" y="4952880"/>
            <a:ext cx="5210280" cy="175284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6" name="hamme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808840" cy="12621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609120" y="1676160"/>
            <a:ext cx="7696440" cy="33526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In 1848, crooked settlers stole much of the Tigua land from them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The State of Texas ignored the Spanish land grant and title of the land to the Tigua Indians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Most of El Paso is built on land taken from the Tigua. This left the Tigua very poor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Only the land around the Ysleta mission and their houses is still theirs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4" name="Picture 5" descr="C:\Users\Mayfield\Pictures\XZUEO7CAX96VOVCASNNQNBCAHD1HNZCAAW9UAQCABOFPHECAZWI5E4CAQOL6FXCAYKHA0LCAGWPD69CAXH4ZT0CASFWIOSCAX97GWACA7YC11ECA93Y9W0CAGWJXCXCA5PUFE9CA2MJRUICAF8CH8M.jpg"/>
          <p:cNvPicPr/>
          <p:nvPr/>
        </p:nvPicPr>
        <p:blipFill>
          <a:blip r:embed="rId2"/>
          <a:stretch/>
        </p:blipFill>
        <p:spPr>
          <a:xfrm>
            <a:off x="2666880" y="4572000"/>
            <a:ext cx="4114800" cy="20574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3" name="push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ttp://www.bigorrin.org/pueblo_kids.htm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ttp://dnn.epcc.edu/nwlibrary/borderlands/17_tigua_indians.htm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ttp://livebinders.com/play/play_shared_binder/32036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ttp://www.texasindians.com/tigua.htm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randomBar dir="horz"/>
    <p:sndAc>
      <p:stSnd>
        <p:snd r:embed="rId2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6840" y="1523880"/>
            <a:ext cx="51814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Tigua first lived in Pueblo Gran Quivera, which is north of El Paso in the Manzano Mountains southeast of Albuquerque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ost of El Paso is built on land taken from the Tigua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y still live in El Paso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AutoShape 2"/>
          <p:cNvSpPr/>
          <p:nvPr/>
        </p:nvSpPr>
        <p:spPr>
          <a:xfrm>
            <a:off x="144360" y="-1447920"/>
            <a:ext cx="484848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>
            <a:off x="144360" y="-1447920"/>
            <a:ext cx="484848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"/>
          <p:cNvSpPr/>
          <p:nvPr/>
        </p:nvSpPr>
        <p:spPr>
          <a:xfrm>
            <a:off x="144360" y="-1447920"/>
            <a:ext cx="484848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C:\Users\Mayfield\Pictures\maptig.jpg"/>
          <p:cNvPicPr/>
          <p:nvPr/>
        </p:nvPicPr>
        <p:blipFill>
          <a:blip r:embed="rId2"/>
          <a:stretch/>
        </p:blipFill>
        <p:spPr>
          <a:xfrm>
            <a:off x="5715000" y="1828800"/>
            <a:ext cx="320040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  <p:sndAc>
      <p:stSnd>
        <p:snd r:embed="rId3" name="breez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77444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iguas were good farmers and hunters.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429120" indent="-31248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ey raised corn, beans, squash, and sunflowers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429120" indent="-31248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ey hunted deer, antelope, and small animals like rabbits 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429120" indent="-31248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ey also gathered nuts, fruits, and herbs.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429120" indent="-31248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eir favorite food were hominy, popcorn, baked beans, soups, and cornbread.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21" name="Picture 2" descr="C:\Users\Mayfield\Pictures\pubhs1[1].jpg"/>
          <p:cNvPicPr/>
          <p:nvPr/>
        </p:nvPicPr>
        <p:blipFill>
          <a:blip r:embed="rId2"/>
          <a:stretch/>
        </p:blipFill>
        <p:spPr>
          <a:xfrm>
            <a:off x="2209680" y="4876920"/>
            <a:ext cx="3962520" cy="175248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suction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3886200" y="1904760"/>
            <a:ext cx="4495680" cy="38098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iguas like to hunt and fish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98520" indent="-290160"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y like storytelling, music and art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98520" indent="-290160"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y are good at making pottery, jewelry, and baskets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24" name="Picture 2" descr="C:\Users\Mayfield\Pictures\31N12CCARWI0QHCA1D3BDGCABLJMSRCA823P3SCAX5KOVQCAW0SN9QCAR41KXMCAMW31GKCARNLX9KCAEEW353CATBWBA8CASLYDL1CA10OCENCAQNQAO6CAYJTX66CAE3QZW0CA4O4UBSCAOGI96V.jpg"/>
          <p:cNvPicPr/>
          <p:nvPr/>
        </p:nvPicPr>
        <p:blipFill>
          <a:blip r:embed="rId2"/>
          <a:stretch/>
        </p:blipFill>
        <p:spPr>
          <a:xfrm>
            <a:off x="762120" y="1676520"/>
            <a:ext cx="2693880" cy="4190760"/>
          </a:xfrm>
          <a:prstGeom prst="rect">
            <a:avLst/>
          </a:prstGeom>
          <a:ln w="0">
            <a:noFill/>
          </a:ln>
        </p:spPr>
      </p:pic>
    </p:spTree>
  </p:cSld>
  <p:transition>
    <p:wheel spokes="3"/>
    <p:sndAc>
      <p:stSnd>
        <p:snd r:embed="rId3" name="voltag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01760" y="152280"/>
            <a:ext cx="8370720" cy="12621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837720" y="1904760"/>
            <a:ext cx="4800600" cy="3886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Tigua perform many of the old ceremonies, dances and song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lnSpc>
                <a:spcPct val="9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They have a drum that is very old that is used in these ceremonie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lnSpc>
                <a:spcPct val="9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The drum has been handed down for generations and no one knows how old it is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27" name="Picture 5" descr="C:\Users\Mayfield\Pictures\7UDQTOCAV8KR7LCAZHPF2DCAQ22HNOCA2D2RWDCA487W3HCAJQVR1PCAM7T4JCCA1NPHX4CA09DLPVCADAJMZYCA14MSW0CAASRN1ECADUVLQXCA4DFT62CA46KN9FCASYTTZKCAACP1S1CACYSVJI.jpg"/>
          <p:cNvPicPr/>
          <p:nvPr/>
        </p:nvPicPr>
        <p:blipFill>
          <a:blip r:embed="rId2"/>
          <a:stretch/>
        </p:blipFill>
        <p:spPr>
          <a:xfrm>
            <a:off x="5715000" y="2362320"/>
            <a:ext cx="2952720" cy="32004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3" name="drumroll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C:\Users\Mayfield\Pictures\Z56I7LCANF13Z3CARKXTOTCA6V3CQDCAA6VF5JCAMMUX2WCA5OMUYECA3SJT4ECAC11RQVCA5S1B8VCAQE0D3BCADZBZRQCACU3VRACAZ4GKLRCADVLR09CAWBENZ4CA7M4L5MCANCLMB4CAFP1LSW.jpg"/>
          <p:cNvPicPr/>
          <p:nvPr/>
        </p:nvPicPr>
        <p:blipFill>
          <a:blip r:embed="rId2"/>
          <a:stretch/>
        </p:blipFill>
        <p:spPr>
          <a:xfrm>
            <a:off x="5715000" y="4419720"/>
            <a:ext cx="2514600" cy="1981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C:\Users\Mayfield\Pictures\PPWJTICA4NWTBBCA5G63N7CABV3796CAJ835QWCAR14UNCCANR4SQ7CADMWH3YCA71MRR3CA1R5KB9CAE7T7YZCAGHZ8LJCAZEN23JCAB8T8DICA0UG6UJCA91ZCZUCA2ANPDCCAJM998KCA9DE0TN.jpg"/>
          <p:cNvPicPr/>
          <p:nvPr/>
        </p:nvPicPr>
        <p:blipFill>
          <a:blip r:embed="rId3"/>
          <a:stretch/>
        </p:blipFill>
        <p:spPr>
          <a:xfrm>
            <a:off x="5638680" y="1828800"/>
            <a:ext cx="2600280" cy="22096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6840" y="1774800"/>
            <a:ext cx="4419720" cy="4168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lnSpc>
                <a:spcPct val="9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e Tigua Indians like to dance. 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429120" indent="-312480">
              <a:lnSpc>
                <a:spcPct val="9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In the dances, they have north, south, east, and west to honor all directions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429120" indent="-312480">
              <a:lnSpc>
                <a:spcPct val="9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e Butterfly Dance is held around Easter to give thanks to nature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Content Placeholder 2"/>
          <p:cNvSpPr/>
          <p:nvPr/>
        </p:nvSpPr>
        <p:spPr>
          <a:xfrm>
            <a:off x="4648320" y="3962520"/>
            <a:ext cx="4038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720" rIns="90000" tIns="91440" bIns="46800" anchor="t">
            <a:noAutofit/>
          </a:bodyPr>
          <a:p>
            <a:pPr marL="438120" indent="-318960">
              <a:lnSpc>
                <a:spcPct val="10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3352320" y="1774440"/>
            <a:ext cx="5334120" cy="4778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Tigua Indians go to Catholic mass at the mission church. Saint Anthony is their patron saint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In 1682, Tiguas had become Christians and built a mission church at Ysleta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The Ysleta mission is the oldest church in Texas and the oldest mission in Texas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Important religious ceremonies also are done at every stage of the farming season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AutoShape 2">
            <a:hlinkClick r:id="rId2"/>
          </p:cNvPr>
          <p:cNvSpPr/>
          <p:nvPr/>
        </p:nvSpPr>
        <p:spPr>
          <a:xfrm>
            <a:off x="144360" y="-1371600"/>
            <a:ext cx="189540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4">
            <a:hlinkClick r:id="rId3"/>
          </p:cNvPr>
          <p:cNvSpPr/>
          <p:nvPr/>
        </p:nvSpPr>
        <p:spPr>
          <a:xfrm>
            <a:off x="144360" y="-1371600"/>
            <a:ext cx="189540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5" descr="C:\Users\Mayfield\Pictures\tower-199x300[1].jpg"/>
          <p:cNvPicPr/>
          <p:nvPr/>
        </p:nvPicPr>
        <p:blipFill>
          <a:blip r:embed="rId4"/>
          <a:stretch/>
        </p:blipFill>
        <p:spPr>
          <a:xfrm>
            <a:off x="533520" y="1981080"/>
            <a:ext cx="2895480" cy="4191120"/>
          </a:xfrm>
          <a:prstGeom prst="rect">
            <a:avLst/>
          </a:prstGeom>
          <a:ln w="0">
            <a:noFill/>
          </a:ln>
        </p:spPr>
      </p:pic>
    </p:spTree>
  </p:cSld>
  <p:transition>
    <p:pull dir="ru"/>
    <p:sndAc>
      <p:stSnd>
        <p:snd r:embed="rId5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2209680" y="17521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The main difference between Tigua Indians and other Indian tribes are their houses.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Tigua Indians build Pueblos.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Many families live in one Pueblo.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Many Pueblos had hundreds of people living in them.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Some Pueblos were 4 or 5 stories high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lnSpc>
                <a:spcPct val="8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0" name="Picture 4" descr="C:\Users\Mayfield\Pictures\OIY1LCCAMBN8UICAR47FXBCAU6BBX4CAIANKN5CA0A31Q6CAJVK1SZCAHJQBYFCA4IHP33CAD9LF8LCA6QSSAWCAYT0M1ZCAX85YDECATMS50NCA5BP1CUCA699RIMCA9D22DQCABWW3QQCAH5PDGN.jpg"/>
          <p:cNvPicPr/>
          <p:nvPr/>
        </p:nvPicPr>
        <p:blipFill>
          <a:blip r:embed="rId2"/>
          <a:stretch/>
        </p:blipFill>
        <p:spPr>
          <a:xfrm>
            <a:off x="228600" y="2209680"/>
            <a:ext cx="190512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762120" y="175212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Pueblo is Spanish and means "town"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lnSpc>
                <a:spcPct val="9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A Pueblo is also a big building with many rooms in it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38120" indent="-318960">
              <a:lnSpc>
                <a:spcPct val="90000"/>
              </a:lnSpc>
              <a:buClr>
                <a:srgbClr val="fe8637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3" name="Picture 2" descr="C:\Users\Mayfield\Pictures\pueblo1[1].jpg"/>
          <p:cNvPicPr/>
          <p:nvPr/>
        </p:nvPicPr>
        <p:blipFill>
          <a:blip r:embed="rId2"/>
          <a:stretch/>
        </p:blipFill>
        <p:spPr>
          <a:xfrm>
            <a:off x="1752480" y="3733920"/>
            <a:ext cx="5181840" cy="281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7T21:54:02Z</dcterms:created>
  <dc:creator>Mayfield</dc:creator>
  <dc:description/>
  <dc:language>en-US</dc:language>
  <cp:lastModifiedBy>Mayfield</cp:lastModifiedBy>
  <dcterms:modified xsi:type="dcterms:W3CDTF">2011-10-21T11:54:03Z</dcterms:modified>
  <cp:revision>42</cp:revision>
  <dc:subject/>
  <dc:title>Slide 1</dc:title>
</cp:coreProperties>
</file>